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103C-64B0-4047-8713-31F8392CE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C084-F031-4D0B-A935-F9C0ABD2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47A40-FA18-4429-8C63-F056B85A2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A7128-D901-4C15-9FA4-A4F847F55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5260-7305-4B83-8979-A1D1AC661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5349-69E2-4680-92E7-BC041B8C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F6EC4-4A45-4D74-8515-48FAB280B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50CB-E7E4-492B-ADB6-13D13B043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156A0-8251-4544-B3B2-F14889A1C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E05A-9566-4517-A8F8-DB18ED43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675D-AA27-4982-B546-38DE4497A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690E8-A878-4FFC-B205-0FC87749A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DDB1-6421-406F-9AD6-C37D134F2E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isture in the Air and Forecasting Weather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a piece of notebook paper and number from 10 – 2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core bin when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rcRect l="0" t="15627" r="26564" b="52084"/>
          <a:stretch/>
        </p:blipFill>
        <p:spPr>
          <a:xfrm>
            <a:off x="76320" y="609480"/>
            <a:ext cx="9067680" cy="29908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28600" y="4344120"/>
            <a:ext cx="8686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. To predict areas of possible storm development, select a tool you would use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gather the necessary da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Dew point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Visible satell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Infrared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rcRect l="0" t="14584" r="25782" b="52084"/>
          <a:stretch/>
        </p:blipFill>
        <p:spPr>
          <a:xfrm>
            <a:off x="0" y="609480"/>
            <a:ext cx="9144000" cy="3079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3841920"/>
            <a:ext cx="8839080" cy="30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. You and your friends are going to an outdoor sporting event in 3 days and want t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know what the weather will be like on that day.  Which tool or method would you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us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emperature m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omputer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rends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15627" r="25782" b="51046"/>
          <a:stretch/>
        </p:blipFill>
        <p:spPr>
          <a:xfrm>
            <a:off x="-152280" y="838080"/>
            <a:ext cx="9296280" cy="313236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-337320" y="4344120"/>
            <a:ext cx="92534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. Which is the best map to collect data for determining areas of fog and/or snow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ef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enter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Right im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rcRect l="0" t="14584" r="26564" b="51046"/>
          <a:stretch/>
        </p:blipFill>
        <p:spPr>
          <a:xfrm>
            <a:off x="304920" y="304920"/>
            <a:ext cx="8610480" cy="30225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228600" y="3963240"/>
            <a:ext cx="89154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. Observe the changes in temperature for the entire country.  Select a state or two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states together where you would expect that a front is occurr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Maine and New Hampsh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Kansas and Nebras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Nevada and Californ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rcRect l="0" t="14584" r="26564" b="52084"/>
          <a:stretch/>
        </p:blipFill>
        <p:spPr>
          <a:xfrm>
            <a:off x="0" y="45720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3200" y="4039560"/>
            <a:ext cx="601632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. Given the variables above, predict the wea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torms are 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Temperatures will dr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No change is like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14584" r="26564" b="51046"/>
          <a:stretch/>
        </p:blipFill>
        <p:spPr>
          <a:xfrm>
            <a:off x="228600" y="685800"/>
            <a:ext cx="8763120" cy="30765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-127440" y="4572720"/>
            <a:ext cx="6560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. Select the data provided when using the map abov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Water vapor in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loud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Observation of conditions right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0" t="14584" r="26564" b="52084"/>
          <a:stretch/>
        </p:blipFill>
        <p:spPr>
          <a:xfrm>
            <a:off x="0" y="304920"/>
            <a:ext cx="8763120" cy="2982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304920" y="4115520"/>
            <a:ext cx="853416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. The relative humidity in cube “B”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Lower than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Higher than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The same as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72480" y="4344120"/>
            <a:ext cx="807228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. Cube “A” is 15° warmer than cube “B”. 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Which cube shows air with lower relative humidity than the other cub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Cub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ube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380880" y="533520"/>
            <a:ext cx="8334360" cy="28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3127" t="19791" r="23438" b="46877"/>
          <a:stretch/>
        </p:blipFill>
        <p:spPr>
          <a:xfrm>
            <a:off x="76320" y="457200"/>
            <a:ext cx="8915400" cy="30351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298440" y="4496400"/>
            <a:ext cx="739764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 Which image shows conditions for higher humidit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Image “A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Image “B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3906" t="20835" r="25003" b="47920"/>
          <a:stretch/>
        </p:blipFill>
        <p:spPr>
          <a:xfrm>
            <a:off x="1371600" y="0"/>
            <a:ext cx="6934320" cy="22860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rcRect l="4688" t="23960" r="25003" b="46877"/>
          <a:stretch/>
        </p:blipFill>
        <p:spPr>
          <a:xfrm>
            <a:off x="1447920" y="2286000"/>
            <a:ext cx="6858000" cy="2133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80880" y="5029560"/>
            <a:ext cx="713448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. What is the highest relative humidity for the da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92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79.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84.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rcRect l="3127" t="20835" r="24220" b="48964"/>
          <a:stretch/>
        </p:blipFill>
        <p:spPr>
          <a:xfrm>
            <a:off x="838080" y="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rcRect l="2344" t="25004" r="25003" b="46877"/>
          <a:stretch/>
        </p:blipFill>
        <p:spPr>
          <a:xfrm>
            <a:off x="762120" y="2209680"/>
            <a:ext cx="7086600" cy="205740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4877640"/>
            <a:ext cx="914400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. At what time did the highest Relative Humidity occ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7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8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9:00 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rcRect l="3127" t="19791" r="23438" b="46877"/>
          <a:stretch/>
        </p:blipFill>
        <p:spPr>
          <a:xfrm>
            <a:off x="0" y="53352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-174600" y="4572720"/>
            <a:ext cx="962064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. Select the letter on the illustration that shows water droplets falling from the clou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rcRect l="3127" t="19791" r="24220" b="46877"/>
          <a:stretch/>
        </p:blipFill>
        <p:spPr>
          <a:xfrm>
            <a:off x="1066680" y="0"/>
            <a:ext cx="7086600" cy="2438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rcRect l="3127" t="23960" r="25003" b="46877"/>
          <a:stretch/>
        </p:blipFill>
        <p:spPr>
          <a:xfrm>
            <a:off x="1066680" y="2362320"/>
            <a:ext cx="7010640" cy="21333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533520" y="4982400"/>
            <a:ext cx="754380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. At what time did the lowest Relative Humidity occu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12:00 P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2:0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4:00 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843480" y="4649040"/>
            <a:ext cx="713304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. Choose the most correct statement based upon your data abo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s relative humidity decreases, temperature de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s temperature increases, relative humidity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As relative humidity increase, temperature in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As temperature increases, relative humidity decreas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rcRect l="3127" t="19791" r="24220" b="46877"/>
          <a:stretch/>
        </p:blipFill>
        <p:spPr>
          <a:xfrm>
            <a:off x="1066680" y="228600"/>
            <a:ext cx="7086600" cy="24382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3127" t="23960" r="25003" b="46877"/>
          <a:stretch/>
        </p:blipFill>
        <p:spPr>
          <a:xfrm>
            <a:off x="1066680" y="2590920"/>
            <a:ext cx="701064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2:16:50Z</dcterms:created>
  <dc:creator>skrial</dc:creator>
  <dc:description/>
  <dc:language>en-US</dc:language>
  <cp:lastModifiedBy>skrial</cp:lastModifiedBy>
  <dcterms:modified xsi:type="dcterms:W3CDTF">2010-01-12T14:31:11Z</dcterms:modified>
  <cp:revision>2</cp:revision>
  <dc:subject/>
  <dc:title>Moisture in the Air and Forecasting Weather Quizzes</dc:title>
</cp:coreProperties>
</file>